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419-D949-4BD1-A1F1-DA5E2356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E90-0651-4785-AD91-2391434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4F8-9472-44E2-91CF-38F9DAFA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DF0-DD51-4C47-96AD-275B7DBD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637-8E94-4E0B-908B-076DD51D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C87-8992-4A01-AC64-0146B280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9AC-10C5-4738-9C01-65C5FF2A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D39-A609-4A59-8410-5F4933F7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6FE-ABD2-4140-BBAC-44BF99AA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E27-9952-46D5-926D-13EE64C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2D4-CC3F-4A9F-BC91-48D13578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704-4C7C-4264-B939-174BC4AB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8C3-654B-4F01-8403-2B8D05FB6C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babyanimalz.com/Kind17.php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Laura\AppData\Local\Microsoft\Windows\Temporary Internet Files\Content.IE5\MAQ6DRLU\MPj04447930000[1].jpg"/>
          <p:cNvPicPr/>
          <p:nvPr/>
        </p:nvPicPr>
        <p:blipFill>
          <a:blip r:embed="rId1"/>
          <a:stretch/>
        </p:blipFill>
        <p:spPr>
          <a:xfrm>
            <a:off x="4067280" y="260280"/>
            <a:ext cx="124920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:\Users\Laura\AppData\Local\Microsoft\Windows\Temporary Internet Files\Content.IE5\AYQERZDH\MPj04064980000[1].jpg"/>
          <p:cNvPicPr/>
          <p:nvPr/>
        </p:nvPicPr>
        <p:blipFill>
          <a:blip r:embed="rId2"/>
          <a:stretch/>
        </p:blipFill>
        <p:spPr>
          <a:xfrm>
            <a:off x="3492360" y="4653000"/>
            <a:ext cx="279900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Laura\AppData\Local\Microsoft\Windows\Temporary Internet Files\Content.IE5\134ZWBT5\MPj02629270000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123192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www.babyanimalz.com/images/Kind17_small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260280"/>
            <a:ext cx="213984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C:\Users\Laura\AppData\Local\Microsoft\Windows\Temporary Internet Files\Content.IE5\QM4OA0G1\MPj04388230000[1].jpg"/>
          <p:cNvPicPr/>
          <p:nvPr/>
        </p:nvPicPr>
        <p:blipFill>
          <a:blip r:embed="rId6"/>
          <a:stretch/>
        </p:blipFill>
        <p:spPr>
          <a:xfrm>
            <a:off x="420840" y="5492880"/>
            <a:ext cx="160308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http://t3.gstatic.com/images?q=tbn:rfV7D11RIN6qdM:http://www.warrenphotographic.co.uk/photography/cats/03598.jpg"/>
          <p:cNvPicPr/>
          <p:nvPr/>
        </p:nvPicPr>
        <p:blipFill>
          <a:blip r:embed="rId7"/>
          <a:stretch/>
        </p:blipFill>
        <p:spPr>
          <a:xfrm>
            <a:off x="7308720" y="2060640"/>
            <a:ext cx="1609920" cy="153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35280" y="2492280"/>
            <a:ext cx="543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match the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al to its parents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2303640" cy="1800000"/>
          </a:xfrm>
          <a:prstGeom prst="rightArrowCallout">
            <a:avLst>
              <a:gd name="adj1" fmla="val 25002"/>
              <a:gd name="adj2" fmla="val 25000"/>
              <a:gd name="adj3" fmla="val 21330"/>
              <a:gd name="adj4" fmla="val 6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765000"/>
            <a:ext cx="1871640" cy="1727280"/>
          </a:xfrm>
          <a:custGeom>
            <a:avLst/>
            <a:gdLst>
              <a:gd name="textAreaLeft" fmla="*/ 439920 w 1871640"/>
              <a:gd name="textAreaRight" fmla="*/ 1430640 w 1871640"/>
              <a:gd name="textAreaTop" fmla="*/ 203040 h 1727280"/>
              <a:gd name="textAreaBottom" fmla="*/ 1083600 h 1727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4653000"/>
            <a:ext cx="216036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863640" cy="158436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2060640"/>
            <a:ext cx="720720" cy="1512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549360"/>
            <a:ext cx="1368360" cy="10065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549360"/>
            <a:ext cx="1152720" cy="10778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778360"/>
            <a:ext cx="107964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4581360"/>
            <a:ext cx="1584360" cy="1584360"/>
          </a:xfrm>
          <a:prstGeom prst="leftArrowCallout">
            <a:avLst>
              <a:gd name="adj1" fmla="val 25002"/>
              <a:gd name="adj2" fmla="val 25000"/>
              <a:gd name="adj3" fmla="val 16667"/>
              <a:gd name="adj4" fmla="val 66673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797360"/>
            <a:ext cx="79236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Pupp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Kitten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Foal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Ho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Baby monke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Monk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549360"/>
            <a:ext cx="7993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d you get them righ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005360"/>
            <a:ext cx="1295280" cy="1268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551664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ll Done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8:01:36Z</dcterms:created>
  <dc:creator>Laura</dc:creator>
  <dc:description/>
  <dc:language>en-US</dc:language>
  <cp:lastModifiedBy>J.S.Gibson</cp:lastModifiedBy>
  <dcterms:modified xsi:type="dcterms:W3CDTF">2009-10-30T09:33:34Z</dcterms:modified>
  <cp:revision>11</cp:revision>
  <dc:subject/>
  <dc:title>Slide 1</dc:title>
</cp:coreProperties>
</file>