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6C3-9E66-4961-B1F9-CA250BB2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D6A-9D2C-46E2-847F-C74ABAB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D1A-A7B3-4796-A39D-3B26B832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4CF-825D-46DD-9358-83B579EE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20A-76C2-4C4D-A3B8-3BBB62F6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764-2F3A-451B-A4CF-B67FBA67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E45-A803-42E1-8C98-A756219F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AF8-6FD2-4787-AB03-81623BE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5F9-83E9-41C7-9883-C547064C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B41-BA98-49DA-B7C0-CC8CEAA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41A-E6F1-4F8C-BCBF-CFD49F9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FCE-C93E-4A0C-8E80-6BC67AF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A231-308F-4DD4-91D1-ED03452E08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babyanimalz.com/Kind17.php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Laura\AppData\Local\Microsoft\Windows\Temporary Internet Files\Content.IE5\MAQ6DRLU\MPj04447930000[1].jpg"/>
          <p:cNvPicPr/>
          <p:nvPr/>
        </p:nvPicPr>
        <p:blipFill>
          <a:blip r:embed="rId1"/>
          <a:stretch/>
        </p:blipFill>
        <p:spPr>
          <a:xfrm>
            <a:off x="4067280" y="260280"/>
            <a:ext cx="124920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:\Users\Laura\AppData\Local\Microsoft\Windows\Temporary Internet Files\Content.IE5\AYQERZDH\MPj04064980000[1].jpg"/>
          <p:cNvPicPr/>
          <p:nvPr/>
        </p:nvPicPr>
        <p:blipFill>
          <a:blip r:embed="rId2"/>
          <a:stretch/>
        </p:blipFill>
        <p:spPr>
          <a:xfrm>
            <a:off x="3492360" y="4653000"/>
            <a:ext cx="2799000" cy="185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Users\Laura\AppData\Local\Microsoft\Windows\Temporary Internet Files\Content.IE5\134ZWBT5\MPj02629270000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1231920" cy="1811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http://www.babyanimalz.com/images/Kind17_small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260280"/>
            <a:ext cx="2139840" cy="156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C:\Users\Laura\AppData\Local\Microsoft\Windows\Temporary Internet Files\Content.IE5\QM4OA0G1\MPj04388230000[1].jpg"/>
          <p:cNvPicPr/>
          <p:nvPr/>
        </p:nvPicPr>
        <p:blipFill>
          <a:blip r:embed="rId6"/>
          <a:stretch/>
        </p:blipFill>
        <p:spPr>
          <a:xfrm>
            <a:off x="420840" y="5492880"/>
            <a:ext cx="160308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http://t3.gstatic.com/images?q=tbn:rfV7D11RIN6qdM:http://www.warrenphotographic.co.uk/photography/cats/03598.jpg"/>
          <p:cNvPicPr/>
          <p:nvPr/>
        </p:nvPicPr>
        <p:blipFill>
          <a:blip r:embed="rId7"/>
          <a:stretch/>
        </p:blipFill>
        <p:spPr>
          <a:xfrm>
            <a:off x="7308720" y="2060640"/>
            <a:ext cx="1609920" cy="153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835280" y="2492280"/>
            <a:ext cx="543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match the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al to its parents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49360"/>
            <a:ext cx="2303640" cy="1800000"/>
          </a:xfrm>
          <a:prstGeom prst="rightArrowCallout">
            <a:avLst>
              <a:gd name="adj1" fmla="val 25002"/>
              <a:gd name="adj2" fmla="val 25000"/>
              <a:gd name="adj3" fmla="val 21330"/>
              <a:gd name="adj4" fmla="val 6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765000"/>
            <a:ext cx="1871640" cy="1727280"/>
          </a:xfrm>
          <a:custGeom>
            <a:avLst/>
            <a:gdLst>
              <a:gd name="textAreaLeft" fmla="*/ 439920 w 1871640"/>
              <a:gd name="textAreaRight" fmla="*/ 1430640 w 1871640"/>
              <a:gd name="textAreaTop" fmla="*/ 203040 h 1727280"/>
              <a:gd name="textAreaBottom" fmla="*/ 1083600 h 1727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4653000"/>
            <a:ext cx="2160360" cy="1368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500280"/>
            <a:ext cx="863640" cy="1584360"/>
          </a:xfrm>
          <a:prstGeom prst="diamon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2060640"/>
            <a:ext cx="720720" cy="1512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549360"/>
            <a:ext cx="1368360" cy="10065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549360"/>
            <a:ext cx="1152720" cy="10778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778360"/>
            <a:ext cx="107964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4581360"/>
            <a:ext cx="1584360" cy="1584360"/>
          </a:xfrm>
          <a:prstGeom prst="leftArrowCallout">
            <a:avLst>
              <a:gd name="adj1" fmla="val 25002"/>
              <a:gd name="adj2" fmla="val 25000"/>
              <a:gd name="adj3" fmla="val 16667"/>
              <a:gd name="adj4" fmla="val 66673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797360"/>
            <a:ext cx="79236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Pupp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Kitten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C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Foal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Ho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Baby monkey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Monk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549360"/>
            <a:ext cx="7993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d you get them righ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005360"/>
            <a:ext cx="1295280" cy="1268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59280" y="551664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ll Done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8:01:36Z</dcterms:created>
  <dc:creator>Laura</dc:creator>
  <dc:description/>
  <dc:language>en-US</dc:language>
  <cp:lastModifiedBy>J.S.Gibson</cp:lastModifiedBy>
  <dcterms:modified xsi:type="dcterms:W3CDTF">2009-10-30T09:33:34Z</dcterms:modified>
  <cp:revision>11</cp:revision>
  <dc:subject/>
  <dc:title>Slide 1</dc:title>
</cp:coreProperties>
</file>