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84B-150C-46E6-866C-D3D15C1C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B8A3-B69D-4695-86CE-8E059432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196-E6DB-42A3-8FCC-D56E9086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680-AB63-45E7-878F-668533AD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F48-9AA0-4AFF-B91E-65500AB3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4A5-E4CA-4F4F-A5AD-66704088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E0D-9658-40C0-8931-BB8B5491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B21-ED92-4A3B-BFBF-68C0A051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E35-0BEA-4DF0-8852-DF4A93B5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7E9C-5077-4548-89D8-88B03CD3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EA4-5179-4636-B947-F58CF2C6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EEE8-2FF4-47F1-B5CF-9B6E35EE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2A41-C613-4564-82D8-1E199ABA294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babyanimalz.com/Kind17.php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Laura\AppData\Local\Microsoft\Windows\Temporary Internet Files\Content.IE5\MAQ6DRLU\MPj04447930000[1].jpg"/>
          <p:cNvPicPr/>
          <p:nvPr/>
        </p:nvPicPr>
        <p:blipFill>
          <a:blip r:embed="rId1"/>
          <a:stretch/>
        </p:blipFill>
        <p:spPr>
          <a:xfrm>
            <a:off x="4067280" y="260280"/>
            <a:ext cx="1249200" cy="163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:\Users\Laura\AppData\Local\Microsoft\Windows\Temporary Internet Files\Content.IE5\AYQERZDH\MPj04064980000[1].jpg"/>
          <p:cNvPicPr/>
          <p:nvPr/>
        </p:nvPicPr>
        <p:blipFill>
          <a:blip r:embed="rId2"/>
          <a:stretch/>
        </p:blipFill>
        <p:spPr>
          <a:xfrm>
            <a:off x="3492360" y="4653000"/>
            <a:ext cx="2799000" cy="1859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C:\Users\Laura\AppData\Local\Microsoft\Windows\Temporary Internet Files\Content.IE5\134ZWBT5\MPj02629270000[1].jpg"/>
          <p:cNvPicPr/>
          <p:nvPr/>
        </p:nvPicPr>
        <p:blipFill>
          <a:blip r:embed="rId3"/>
          <a:stretch/>
        </p:blipFill>
        <p:spPr>
          <a:xfrm>
            <a:off x="468360" y="3141720"/>
            <a:ext cx="1231920" cy="1811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http://www.babyanimalz.com/images/Kind17_small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9640" y="260280"/>
            <a:ext cx="2139840" cy="1560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C:\Users\Laura\AppData\Local\Microsoft\Windows\Temporary Internet Files\Content.IE5\QM4OA0G1\MPj04388230000[1].jpg"/>
          <p:cNvPicPr/>
          <p:nvPr/>
        </p:nvPicPr>
        <p:blipFill>
          <a:blip r:embed="rId6"/>
          <a:stretch/>
        </p:blipFill>
        <p:spPr>
          <a:xfrm>
            <a:off x="420840" y="5492880"/>
            <a:ext cx="1603080" cy="1073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http://t3.gstatic.com/images?q=tbn:rfV7D11RIN6qdM:http://www.warrenphotographic.co.uk/photography/cats/03598.jpg"/>
          <p:cNvPicPr/>
          <p:nvPr/>
        </p:nvPicPr>
        <p:blipFill>
          <a:blip r:embed="rId7"/>
          <a:stretch/>
        </p:blipFill>
        <p:spPr>
          <a:xfrm>
            <a:off x="7308720" y="2060640"/>
            <a:ext cx="1609920" cy="1539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835280" y="2492280"/>
            <a:ext cx="543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n you match the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imal to its parents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549360"/>
            <a:ext cx="2303640" cy="1800000"/>
          </a:xfrm>
          <a:prstGeom prst="rightArrowCallout">
            <a:avLst>
              <a:gd name="adj1" fmla="val 25002"/>
              <a:gd name="adj2" fmla="val 25000"/>
              <a:gd name="adj3" fmla="val 21330"/>
              <a:gd name="adj4" fmla="val 6666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765000"/>
            <a:ext cx="1871640" cy="1727280"/>
          </a:xfrm>
          <a:custGeom>
            <a:avLst/>
            <a:gdLst>
              <a:gd name="textAreaLeft" fmla="*/ 439920 w 1871640"/>
              <a:gd name="textAreaRight" fmla="*/ 1430640 w 1871640"/>
              <a:gd name="textAreaTop" fmla="*/ 203040 h 1727280"/>
              <a:gd name="textAreaBottom" fmla="*/ 1083600 h 1727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4653000"/>
            <a:ext cx="2160360" cy="1368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3500280"/>
            <a:ext cx="863640" cy="158436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24720" y="2060640"/>
            <a:ext cx="720720" cy="1512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549360"/>
            <a:ext cx="1368360" cy="10065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549360"/>
            <a:ext cx="1152720" cy="107784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5778360"/>
            <a:ext cx="1079640" cy="1079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4581360"/>
            <a:ext cx="1584360" cy="1584360"/>
          </a:xfrm>
          <a:prstGeom prst="leftArrowCallout">
            <a:avLst>
              <a:gd name="adj1" fmla="val 25002"/>
              <a:gd name="adj2" fmla="val 25000"/>
              <a:gd name="adj3" fmla="val 16667"/>
              <a:gd name="adj4" fmla="val 66673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4797360"/>
            <a:ext cx="792360" cy="1368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Puppy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Do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Kitten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C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Foal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Hor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Baby monkey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Monke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549360"/>
            <a:ext cx="7993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d you get them righ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4005360"/>
            <a:ext cx="1295280" cy="1268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59280" y="551664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ll Done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8:01:36Z</dcterms:created>
  <dc:creator>Laura</dc:creator>
  <dc:description/>
  <dc:language>en-US</dc:language>
  <cp:lastModifiedBy>J.S.Gibson</cp:lastModifiedBy>
  <dcterms:modified xsi:type="dcterms:W3CDTF">2009-10-30T09:33:34Z</dcterms:modified>
  <cp:revision>11</cp:revision>
  <dc:subject/>
  <dc:title>Slide 1</dc:title>
</cp:coreProperties>
</file>