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1752-98D6-4FCC-AABD-5CC1E9D7F7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one survived - disc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B71-349A-4267-8643-FC922B5A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6445-5B4F-45AC-9875-C1FE22A9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276-5E15-4B8D-97DE-6C2ACA94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CE9-06E8-4E0C-8C1C-4AFE5C83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59E2-424A-4F7F-A3DE-2A6F6A7E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E64-1C95-40C8-A63D-CF445CAB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29F-11B8-4F94-B09A-F0F0B642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86E-EC1A-47B3-AB25-31C6F9CC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3553-F2F0-4FE8-994B-BC66814A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43B-5356-46DF-9A17-F656366D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2E9-87C9-42C6-B6D6-C28753FA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F8C-4F0F-4E03-80D1-6A1D9854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A0FB-CFF9-4927-810E-06BA2360B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1844640"/>
            <a:ext cx="820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The Great Fire of Lond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6308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fireoflondon.org.u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eat Fire of London (1666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ed in Pudding Lane in a Bak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ed 4 day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14680" y="1486080"/>
            <a:ext cx="5715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&quot;THE GEORGE&quot; - 1666 Great Fire of London Survival by mambo1935."/>
          <p:cNvPicPr/>
          <p:nvPr/>
        </p:nvPicPr>
        <p:blipFill>
          <a:blip r:embed="rId2"/>
          <a:stretch/>
        </p:blipFill>
        <p:spPr>
          <a:xfrm>
            <a:off x="1619280" y="1557360"/>
            <a:ext cx="5905440" cy="4324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4046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Wooden Hou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ow do you think they stopped the fire from spreading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y demolished the hous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y do you think they did thi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makes cities and towns safer from great fires toda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9:29:42Z</dcterms:created>
  <dc:creator>j.f.b.parrott</dc:creator>
  <dc:description/>
  <dc:language>en-US</dc:language>
  <cp:lastModifiedBy>j.f.b.parrott</cp:lastModifiedBy>
  <dcterms:modified xsi:type="dcterms:W3CDTF">2009-10-30T09:43:45Z</dcterms:modified>
  <cp:revision>7</cp:revision>
  <dc:subject/>
  <dc:title>Slide 1</dc:title>
</cp:coreProperties>
</file>