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B699-9D65-401E-B3F1-8764FAF31F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one survived - 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68A-EAF1-42C8-A8C0-EBA5DF8B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247-3C4E-4446-995A-73644A0C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6C7-E8FF-4BB9-9F67-7CEF0695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39C-0120-44A9-8A25-2B76B54B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BAD-CEE2-4449-BA7A-C21B2305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92D-5C5C-4DEF-BDDC-E4B94328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B0E-E561-4745-B5AF-ADC53AE2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2D6-6393-47E3-BE15-C4B16F7C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E0B-5AEB-40A0-94FC-0F1F387D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50D-1826-4BBD-A86F-BC0B5855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CB8-3E31-430D-A869-4A8B65C9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6A6-11F4-4DCE-85B2-F3DC4C15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1015-D483-47A7-BD23-58938AED1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1844640"/>
            <a:ext cx="820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The Great Fire of Lond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6308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fireoflondon.org.u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eat Fire of London (1666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ed in Pudding Lane in a Bak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ed 4 day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14680" y="1486080"/>
            <a:ext cx="5715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&quot;THE GEORGE&quot; - 1666 Great Fire of London Survival by mambo1935."/>
          <p:cNvPicPr/>
          <p:nvPr/>
        </p:nvPicPr>
        <p:blipFill>
          <a:blip r:embed="rId2"/>
          <a:stretch/>
        </p:blipFill>
        <p:spPr>
          <a:xfrm>
            <a:off x="1619280" y="1557360"/>
            <a:ext cx="5905440" cy="4324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4046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ooden Hou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w do you think they stopped the fire from spreading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y demolished the hous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y do you think they did thi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makes cities and towns safer from great fires toda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9:29:42Z</dcterms:created>
  <dc:creator>j.f.b.parrott</dc:creator>
  <dc:description/>
  <dc:language>en-US</dc:language>
  <cp:lastModifiedBy>j.f.b.parrott</cp:lastModifiedBy>
  <dcterms:modified xsi:type="dcterms:W3CDTF">2009-10-30T09:43:45Z</dcterms:modified>
  <cp:revision>7</cp:revision>
  <dc:subject/>
  <dc:title>Slide 1</dc:title>
</cp:coreProperties>
</file>