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21C8-C641-4F3C-AFB8-7FEA3BD885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one survived - 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AA7-F766-4F52-93EF-6B37CB62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934-5F1A-4187-8A29-D4144263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595-1CA9-44A3-8A2C-FA3B6FB9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93F-3CAF-42CC-A0D1-9CD6DEF6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3AD-B1D1-4F3B-B3C9-86FD766E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CD2-1032-4A97-ADE7-C2A1DB55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D28-9EED-47CD-B676-710ACD07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8FC-25F7-4B0B-BCA3-60FA7C3F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F5D-7ED1-4030-BD70-911C1B9F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0951-93AA-4A1A-870B-38145EDD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9C1-9FAE-4D4D-B99F-39691CE7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14A-4D04-4DA4-8458-118C8886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6D17-949A-4741-B83B-4938B3AFA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1844640"/>
            <a:ext cx="82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The Great Fire of Lond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6308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fireoflondon.org.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eat Fire of London (1666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ed in Pudding Lane in a Bak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ed 4 day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14680" y="1486080"/>
            <a:ext cx="5715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&quot;THE GEORGE&quot; - 1666 Great Fire of London Survival by mambo1935."/>
          <p:cNvPicPr/>
          <p:nvPr/>
        </p:nvPicPr>
        <p:blipFill>
          <a:blip r:embed="rId2"/>
          <a:stretch/>
        </p:blipFill>
        <p:spPr>
          <a:xfrm>
            <a:off x="1619280" y="1557360"/>
            <a:ext cx="5905440" cy="4324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4046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ooden Hou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w do you think they stopped the fire from spreading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y demolished the hous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y do you think they did thi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makes cities and towns safer from great fires toda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9:29:42Z</dcterms:created>
  <dc:creator>j.f.b.parrott</dc:creator>
  <dc:description/>
  <dc:language>en-US</dc:language>
  <cp:lastModifiedBy>j.f.b.parrott</cp:lastModifiedBy>
  <dcterms:modified xsi:type="dcterms:W3CDTF">2009-10-30T09:43:45Z</dcterms:modified>
  <cp:revision>7</cp:revision>
  <dc:subject/>
  <dc:title>Slide 1</dc:title>
</cp:coreProperties>
</file>