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F206A-4106-4250-B9F0-EC237412C9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one survived - discu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1AA6-CBE5-4DF1-8412-CCA500A69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0479-9C63-4789-83E6-30BDF71FD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3D72-5D9B-40BE-A27E-D311DBE02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4652-9063-4CF6-A7B0-C748F568B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A53F-ED2E-45FF-8761-49796BD9D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A6E0-D88A-4D35-A64F-69A679FD4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CF63-2EF8-4142-AE3F-C423F6317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A4AA-E31E-43E5-8985-F187AD474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30BB-4BAD-4016-AC8D-D0F9F742E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E6B1-445F-461A-9F45-7DA13217E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C06C-576C-4F28-BDA2-7A3B5DE9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38C0-7476-48A3-97FC-568316A23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DE629-8A9B-4C65-8799-4CDD4A963D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9640" y="1844640"/>
            <a:ext cx="8209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The Great Fire of Londo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80000" y="630864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www.fireoflondon.org.uk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he Great Fire of London (1666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ed in Pudding Lane in a Bak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ed 4 day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714680" y="1486080"/>
            <a:ext cx="57150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&quot;THE GEORGE&quot; - 1666 Great Fire of London Survival by mambo1935."/>
          <p:cNvPicPr/>
          <p:nvPr/>
        </p:nvPicPr>
        <p:blipFill>
          <a:blip r:embed="rId2"/>
          <a:stretch/>
        </p:blipFill>
        <p:spPr>
          <a:xfrm>
            <a:off x="1619280" y="1557360"/>
            <a:ext cx="5905440" cy="43243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826920" y="40464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Wooden Hous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How do you think they stopped the fire from spreading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y demolished the hous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y do you think they did thi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makes cities and towns safer from great fires today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30T09:29:42Z</dcterms:created>
  <dc:creator>j.f.b.parrott</dc:creator>
  <dc:description/>
  <dc:language>en-US</dc:language>
  <cp:lastModifiedBy>j.f.b.parrott</cp:lastModifiedBy>
  <dcterms:modified xsi:type="dcterms:W3CDTF">2009-10-30T09:43:45Z</dcterms:modified>
  <cp:revision>7</cp:revision>
  <dc:subject/>
  <dc:title>Slide 1</dc:title>
</cp:coreProperties>
</file>