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760-F333-4FFF-A5DB-E80660575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ne survived -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02-1E2F-48C6-8B4B-A11E1394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428-B969-463C-96B1-BBB1A02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E21-20EB-450B-AF2F-9F2817F0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F48-BC60-4255-AD69-7CA213F6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639-29B8-4BBC-B8B1-E1A7EE58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248-2BBB-46B1-B7C0-EF93D548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CEC-321D-4382-B997-483EDA6C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EC6-4FBC-42F9-973B-FBB6A72F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9D3-8929-4417-ABEE-F762483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670-5796-47D5-9639-CA1C775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1E2-5F63-4EAE-B63C-115952B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368-C198-4E4A-93AF-E60EA0C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AC23-DF48-465E-8B8C-BA7311C0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844640"/>
            <a:ext cx="82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The Great Fire of Lond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ireoflondo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Fire of London (166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ed in Pudding Lane in a Ba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ed 4 da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&quot;THE GEORGE&quot; - 1666 Great Fire of London Survival by mambo1935."/>
          <p:cNvPicPr/>
          <p:nvPr/>
        </p:nvPicPr>
        <p:blipFill>
          <a:blip r:embed="rId2"/>
          <a:stretch/>
        </p:blipFill>
        <p:spPr>
          <a:xfrm>
            <a:off x="1619280" y="1557360"/>
            <a:ext cx="5905440" cy="432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404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oden Hou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w do you think they stopped the fire from spreading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demolished the hous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y do you think they did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makes cities and towns safer from great fires tod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9:29:42Z</dcterms:created>
  <dc:creator>j.f.b.parrott</dc:creator>
  <dc:description/>
  <dc:language>en-US</dc:language>
  <cp:lastModifiedBy>j.f.b.parrott</cp:lastModifiedBy>
  <dcterms:modified xsi:type="dcterms:W3CDTF">2009-10-30T09:43:45Z</dcterms:modified>
  <cp:revision>7</cp:revision>
  <dc:subject/>
  <dc:title>Slide 1</dc:title>
</cp:coreProperties>
</file>